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7F994-C04E-4B66-BD4C-87FED0EC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FB7D1-0EDD-426B-9682-C814A5A6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A8FE7-2B82-45C8-9297-DC7936D7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746EB-C47C-45D2-BD1E-428DFC3C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DDD3-49A2-43CC-9085-955770F4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0A19-8EED-4067-B5D3-7438A82D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6836-5DD2-4B2E-9CCD-499D0719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6CE0-6F56-489D-B250-16886B69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E150-1E15-4AB1-B860-13531878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4B41-3983-42D6-9781-04AD471E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0E87-1238-4255-BE99-22E5CCA1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4DE86-B7B1-4AF1-929B-D715148B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575A-34E1-4247-8FD9-F4846151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249F-6216-4BD3-972B-126479F0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1760-2A09-4159-A63D-9EA6007D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9757-D1A9-49E4-A308-78791CB3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52BC-765F-4402-8B1C-50ECCB0B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08F31-DC53-4139-AD09-52FF3399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E1DDF-A9DA-4DF4-816D-896DA27C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C2DD8-34B0-4C66-A132-37CDEB68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66BAC-9214-46DE-AA9B-1C33BFE7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E860A-1E93-4A7F-9B9B-302E8AA3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F0A71-EAFF-44FE-9F3F-792296F2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0F87A-77C0-4996-8847-606C319E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4386-AD6C-47E0-AADB-2F4B1E2011CF}" type="slidenum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DCFE-E7F2-4E1E-A643-B4C978643BEC}" type="slidenum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252360" y="1398600"/>
            <a:ext cx="957744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Garamond"/>
              </a:rPr>
              <a:t>29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bg-BG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(950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Спасе, о, благослови н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ощ' преди да се смрачи;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дай, от Тебе опростени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да затворим в сън очи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541440" y="1625760"/>
            <a:ext cx="10082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Може зло да ни завари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може смърт да връхлети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С Твоите ангели-другар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зорко бди над нас все Ти!</a:t>
            </a:r>
            <a:r>
              <a:rPr b="0" lang="bg-BG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252360" y="1390680"/>
            <a:ext cx="957744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Най-ужасен да е мракът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Тебе нощ не може скри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Твоят Дух над нас да чак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неуморно до зори!</a:t>
            </a:r>
            <a:r>
              <a:rPr b="0" lang="bg-BG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123</cp:lastModifiedBy>
  <dcterms:modified xsi:type="dcterms:W3CDTF">2005-10-23T09:17:18Z</dcterms:modified>
  <cp:revision>226</cp:revision>
  <dc:subject/>
  <dc:title>Slide 1</dc:title>
</cp:coreProperties>
</file>